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963-C6E9-474B-A566-EA40D0B7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1E4-49EE-4C13-A595-4392234E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9BE-058F-4612-A96C-59101997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376-9CF2-4E2A-8A94-6DB16EE3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880-923B-4671-B3FD-EB1F4299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1A4-2AC2-406E-9622-4DC1C691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1C2-97FB-4CE8-A3C9-AF781DD2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DF2-6948-4201-9384-060A4FB3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0ED-3A52-40F0-8F1A-8B823C69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068-3D60-4E5B-839C-C69329B6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7C1-F2D7-4219-BC38-A24B333D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E1C-7A35-438C-8E4D-C941B90D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0BEC-44C5-406C-AF2F-A167F6C39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ing Limits Using the Limit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28600" y="1930320"/>
            <a:ext cx="6343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nstant and the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               exist. 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 LAW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5"/>
              <p:cNvSpPr txBox="1"/>
              <p:nvPr/>
            </p:nvSpPr>
            <p:spPr>
              <a:xfrm>
                <a:off x="2523960" y="2362320"/>
                <a:ext cx="14385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7"/>
              <p:cNvSpPr txBox="1"/>
              <p:nvPr/>
            </p:nvSpPr>
            <p:spPr>
              <a:xfrm>
                <a:off x="228600" y="2362320"/>
                <a:ext cx="14176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237960" y="3429000"/>
                <a:ext cx="6058080" cy="48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 LAW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2244600"/>
                <a:ext cx="6858000" cy="576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m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→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a</m:t>
                                    </m:r>
                                  </m:lim>
                                </m:limLow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ger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g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n,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 assume  that  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integ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n,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 assume  that 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RECT SUBSTITUTION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76120" y="205740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olynomial or a rational function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the domai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647720" y="3591000"/>
                <a:ext cx="3429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"/>
              <p:cNvSpPr txBox="1"/>
              <p:nvPr/>
            </p:nvSpPr>
            <p:spPr>
              <a:xfrm>
                <a:off x="1447920" y="4952880"/>
                <a:ext cx="337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LIMIT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81160" y="1828800"/>
            <a:ext cx="622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e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cept possibly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the limi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th exist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roach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457200" y="4343400"/>
                <a:ext cx="60530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457200" y="5486400"/>
                <a:ext cx="513864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near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Object 1"/>
              <p:cNvSpPr txBox="1"/>
              <p:nvPr/>
            </p:nvSpPr>
            <p:spPr>
              <a:xfrm>
                <a:off x="457200" y="457200"/>
                <a:ext cx="60530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685800" y="1600200"/>
                <a:ext cx="513864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near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380880" y="7315200"/>
                <a:ext cx="6053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Picture 4" descr=""/>
          <p:cNvPicPr/>
          <p:nvPr/>
        </p:nvPicPr>
        <p:blipFill>
          <a:blip r:embed="rId1"/>
          <a:srcRect l="5193" t="45770" r="32219" b="6709"/>
          <a:stretch/>
        </p:blipFill>
        <p:spPr>
          <a:xfrm>
            <a:off x="0" y="3276720"/>
            <a:ext cx="68882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that agree at all but one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42720" y="2133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838080" y="2743200"/>
                <a:ext cx="342432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990720" y="5105520"/>
                <a:ext cx="38732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1"/>
          <p:cNvSpPr/>
          <p:nvPr/>
        </p:nvSpPr>
        <p:spPr>
          <a:xfrm>
            <a:off x="152280" y="632448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the graphs compare? The t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conclusion can you m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66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 try dividing out when the expression is an indeterminate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1295280" y="4724280"/>
                <a:ext cx="366876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[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Rectangle 1"/>
          <p:cNvSpPr/>
          <p:nvPr/>
        </p:nvSpPr>
        <p:spPr>
          <a:xfrm>
            <a:off x="0" y="243828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tionalizing the numerat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28600" y="1523880"/>
            <a:ext cx="62866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e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cept possibly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46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QUEEZE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71760" y="3046320"/>
                <a:ext cx="4952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1752480" y="4343400"/>
                <a:ext cx="38862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 Box 8"/>
          <p:cNvSpPr/>
          <p:nvPr/>
        </p:nvSpPr>
        <p:spPr>
          <a:xfrm>
            <a:off x="466560" y="5715000"/>
            <a:ext cx="588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This theorem is also sometimes called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ndwich 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23:43:35Z</dcterms:created>
  <dc:creator>Allen Fuller</dc:creator>
  <dc:description/>
  <dc:language>en-US</dc:language>
  <cp:lastModifiedBy>Sheila</cp:lastModifiedBy>
  <dcterms:modified xsi:type="dcterms:W3CDTF">2011-09-02T03:12:41Z</dcterms:modified>
  <cp:revision>41</cp:revision>
  <dc:subject/>
  <dc:title>Section 2.3</dc:title>
</cp:coreProperties>
</file>